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0.wmf" ContentType="image/x-wmf"/>
  <Override PartName="/ppt/media/image9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3.wmf" ContentType="image/x-wmf"/>
  <Override PartName="/ppt/media/image8.wmf" ContentType="image/x-wmf"/>
  <Override PartName="/ppt/media/image22.wmf" ContentType="image/x-wmf"/>
  <Override PartName="/ppt/media/image20.wmf" ContentType="image/x-wmf"/>
  <Override PartName="/ppt/media/image18.gif" ContentType="image/gif"/>
  <Override PartName="/ppt/media/image4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16.wmf" ContentType="image/x-wmf"/>
  <Override PartName="/ppt/media/image5.gif" ContentType="image/gi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ED9-0E4D-4DB1-837C-BD461DF1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4503-DB81-436E-BD03-DF98DF1C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BA03-AA4B-4161-9799-3C245412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0C5F-64B1-4DEF-A2BA-91B3E4EA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AE03-F356-4E45-855B-05E726B4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197B-D0F7-4000-A088-1B814E5F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6570-5270-4F0A-BF33-E689C440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6561-F392-48F9-8006-B8D9C19F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1BE5-4F97-4292-8E5C-1E0C3553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494D-CE8E-41C2-A244-8BD172B1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EAF8-2B11-4442-9F10-812FFAC3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7069-061B-4427-BAE9-D96D166E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7CBD-22E2-491D-8471-73F9099A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0B38-50EE-4E63-B3A5-7A1FF586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1DD9-D3A7-43D8-A97E-F05B229F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698A-C546-43C7-8CEB-567FA743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7919-8DCC-4C37-BAE5-93A575D2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94DAA1-B6B2-49F5-B9C3-3A1509A8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B7EAF7-B6CF-43C6-8E88-705E9955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41940F-ABD6-4CBE-8349-D19AD11D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839CAC-086B-4690-9A4B-1CD04C65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93481E-3E2D-4356-86C1-6C65F056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71A7-5FE3-455B-A62A-B6F09AED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9D0684-FA07-4B02-97C4-B64D12E2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5372B4-ED10-4586-B49F-8793085F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4FFD3F-163F-499C-AF4F-20CA57E5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F2ABF2-7730-48D6-826A-9376A6C5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7ECD7D-E9D4-432B-B5F6-A7485318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525ACE-2421-4E1B-876D-E7584AA5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3FBB5-501F-4DE8-9B1E-A432DB3E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4D68B-1A95-45BB-B8F8-FBD1640A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7B777-D20A-4773-B9E9-3C04E487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4E7B0-D520-45B5-A4C2-B3FE0B04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60A4-AA3E-48EC-8092-495C8E08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C54F0-AE8D-4050-9CFD-1234657F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74BFB-4EA5-4973-BD97-44702FD5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F9D8A-54B1-4672-A140-514558B7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9999E-CC1A-4246-B0EB-7ECA874C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3119F-218B-40C9-AF62-DDE47D23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D4197-5B83-4C32-B095-C38318F1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EB35A-EC65-41F4-AAC4-87B0A1DC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46741-4E8C-42EC-9104-F4654071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A1F19-E8AD-49AA-B185-D8EAD217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48CB8-D527-4C36-AC97-25F4DF05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0254-AF72-4CA5-A027-CFAF74AE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DE805-7FE8-47B1-A901-458A5B3D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375BB-FFAB-41DC-B872-38FE6C43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3A2BF-5FCF-43A8-B319-FD3AF893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A5319-043D-4AA3-9B50-B18B10F4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D66C2-33FA-4D9D-A690-5B61F9D0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D5E66-E257-4C89-AEE7-E58DF29F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B8669-7CA4-473B-BD6F-A42BF8EA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11EC8-26FB-4A3F-B2CD-CBA0AFF7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7939D-C9CA-4B1A-8F86-999224B4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0E8D0-19DC-4920-856D-952D000E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1E19-58B3-45C2-B01F-366E7652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E9645-1EB8-447E-A9B5-406EC18E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21BCB-D855-4B3C-AC42-61910477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0C95F-0043-49A8-B90A-330FA07E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F1280-5004-48F3-9BEB-41E5531E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F4DD0-62FF-40A1-9562-00452CD7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BBC57-C50B-4190-8EEF-FB8D1BDE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BBF83-A20E-413D-8BF4-6533F56A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F60F9-EA02-4F86-A8A9-F97D70E6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44E88-6A7E-4A2A-8CD9-DE15AF61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1524C-4D45-4BC7-A497-FC749CA2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3F7C-D4AE-4C7A-8315-1011A382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84D13-6640-459A-9586-DE299268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2177D-5047-4446-85F3-57835C3E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0EDED-D8A7-44D9-9EB5-0A3596F0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43ACE-7645-483B-9798-5F1C36DE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D8F0A-5650-4F2E-9EEA-E3F288A3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1EDBF-9469-4932-B166-EABF7DAD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DF6A2-F65B-4C17-B35D-BC99A15F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88573-A230-44BA-9EE7-B58BB9CF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3768A-3FA2-446E-8761-29138D1D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98273-3106-4488-8DD1-C3A6A06F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24A0-8101-40FC-9E82-27890D0C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C8915-364E-4603-A1F9-F157B113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FFE25-2068-4223-9D54-A70A022C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B51C8-B06C-4DEF-AD77-09EEAE56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8E0D6-9668-4B9C-865C-E624D513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96744-7445-46F0-B795-3B0D5712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EAD5-3D3E-43E6-910A-0E30FCFE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AACA-4E41-46F1-A083-586D0D43DF1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30EE-3D94-43F2-B883-D5FBD4FF7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4E1C-3F29-4963-B7C3-7FEDBDA89F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77c8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36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38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50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69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87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95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B775-2505-4694-BCCF-6613105BA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45DE-5098-4248-B684-A8465E2624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8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8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0E44-B4D0-436E-B6FA-3C19384851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33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35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47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66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84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92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37E5-FA38-46FC-BC37-CD68840BC0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gi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MATTER: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3 STATES OF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WATER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1828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B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DeAnn Gro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301680" y="380880"/>
            <a:ext cx="88423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A liquid changes to water vapor when it you add heat or it gets warmer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32" descr="j0196458[1]"/>
          <p:cNvPicPr/>
          <p:nvPr/>
        </p:nvPicPr>
        <p:blipFill>
          <a:blip r:embed="rId2"/>
          <a:stretch/>
        </p:blipFill>
        <p:spPr>
          <a:xfrm>
            <a:off x="1905120" y="2054160"/>
            <a:ext cx="5257800" cy="461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3" dur="5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99"/>
                </a:solidFill>
                <a:latin typeface="Comic Sans MS"/>
              </a:rPr>
              <a:t>Water in our world.</a:t>
            </a:r>
            <a:br>
              <a:rPr sz="4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t’s all around us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78" name="Picture 13" descr="j0199719"/>
          <p:cNvPicPr/>
          <p:nvPr/>
        </p:nvPicPr>
        <p:blipFill>
          <a:blip r:embed="rId1"/>
          <a:stretch/>
        </p:blipFill>
        <p:spPr>
          <a:xfrm>
            <a:off x="538200" y="1752480"/>
            <a:ext cx="2846520" cy="28958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5" descr="j0237936"/>
          <p:cNvPicPr/>
          <p:nvPr/>
        </p:nvPicPr>
        <p:blipFill>
          <a:blip r:embed="rId2"/>
          <a:stretch/>
        </p:blipFill>
        <p:spPr>
          <a:xfrm>
            <a:off x="3809880" y="2362320"/>
            <a:ext cx="2063880" cy="263340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16"/>
          <p:cNvSpPr/>
          <p:nvPr/>
        </p:nvSpPr>
        <p:spPr>
          <a:xfrm>
            <a:off x="137160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 who knows what state it may be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19" descr="j0233110"/>
          <p:cNvPicPr/>
          <p:nvPr/>
        </p:nvPicPr>
        <p:blipFill>
          <a:blip r:embed="rId3"/>
          <a:stretch/>
        </p:blipFill>
        <p:spPr>
          <a:xfrm>
            <a:off x="6172200" y="1905120"/>
            <a:ext cx="2666880" cy="2816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3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3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3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050"/>
                </a:solidFill>
                <a:latin typeface="Comic Sans MS"/>
              </a:rPr>
              <a:t>Liquid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842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n we think of water, we usually think of water as a liquid.  A liquid will take the shape of whatever container it is 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27"/>
          <p:cNvSpPr/>
          <p:nvPr/>
        </p:nvSpPr>
        <p:spPr>
          <a:xfrm>
            <a:off x="457200" y="380988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8"/>
          <p:cNvSpPr/>
          <p:nvPr/>
        </p:nvSpPr>
        <p:spPr>
          <a:xfrm>
            <a:off x="228600" y="37339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e drink liquid w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44" descr="AN03487_[1]"/>
          <p:cNvPicPr/>
          <p:nvPr/>
        </p:nvPicPr>
        <p:blipFill>
          <a:blip r:embed="rId2"/>
          <a:stretch/>
        </p:blipFill>
        <p:spPr>
          <a:xfrm>
            <a:off x="4648320" y="3048120"/>
            <a:ext cx="1828800" cy="182700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46"/>
          <p:cNvSpPr/>
          <p:nvPr/>
        </p:nvSpPr>
        <p:spPr>
          <a:xfrm>
            <a:off x="1828800" y="54100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e swim in liquid w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7" descr="j0296998"/>
          <p:cNvPicPr/>
          <p:nvPr/>
        </p:nvPicPr>
        <p:blipFill>
          <a:blip r:embed="rId3"/>
          <a:stretch/>
        </p:blipFill>
        <p:spPr>
          <a:xfrm>
            <a:off x="5486400" y="5105520"/>
            <a:ext cx="2743200" cy="139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301680" y="457200"/>
            <a:ext cx="419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e wash in wate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4" descr="j0250569"/>
          <p:cNvPicPr/>
          <p:nvPr/>
        </p:nvPicPr>
        <p:blipFill>
          <a:blip r:embed="rId2"/>
          <a:stretch/>
        </p:blipFill>
        <p:spPr>
          <a:xfrm>
            <a:off x="5257800" y="609480"/>
            <a:ext cx="2430360" cy="18874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7" descr="j0281330"/>
          <p:cNvPicPr/>
          <p:nvPr/>
        </p:nvPicPr>
        <p:blipFill>
          <a:blip r:embed="rId3"/>
          <a:stretch/>
        </p:blipFill>
        <p:spPr>
          <a:xfrm>
            <a:off x="457200" y="2514600"/>
            <a:ext cx="2089080" cy="20829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3" descr="j0127455[1]"/>
          <p:cNvPicPr/>
          <p:nvPr/>
        </p:nvPicPr>
        <p:blipFill>
          <a:blip r:embed="rId4"/>
          <a:stretch/>
        </p:blipFill>
        <p:spPr>
          <a:xfrm>
            <a:off x="2982960" y="3276720"/>
            <a:ext cx="2225520" cy="31226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7" descr="j0233850"/>
          <p:cNvPicPr/>
          <p:nvPr/>
        </p:nvPicPr>
        <p:blipFill>
          <a:blip r:embed="rId5"/>
          <a:stretch/>
        </p:blipFill>
        <p:spPr>
          <a:xfrm>
            <a:off x="6400800" y="3581280"/>
            <a:ext cx="1407960" cy="2060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301680" y="380880"/>
            <a:ext cx="7851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Liquid water fills our lakes and river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2" name="Picture 9" descr="j0229153[1]"/>
          <p:cNvPicPr/>
          <p:nvPr/>
        </p:nvPicPr>
        <p:blipFill>
          <a:blip r:embed="rId2"/>
          <a:stretch/>
        </p:blipFill>
        <p:spPr>
          <a:xfrm>
            <a:off x="4343400" y="2214720"/>
            <a:ext cx="4267080" cy="31953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6" descr="j0150017"/>
          <p:cNvPicPr/>
          <p:nvPr/>
        </p:nvPicPr>
        <p:blipFill>
          <a:blip r:embed="rId3"/>
          <a:stretch/>
        </p:blipFill>
        <p:spPr>
          <a:xfrm>
            <a:off x="609480" y="2971800"/>
            <a:ext cx="2894040" cy="2135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050"/>
                </a:solidFill>
                <a:latin typeface="Comic Sans MS"/>
              </a:rPr>
              <a:t>Solid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ids hold their shap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Picture 9" descr="j0323744"/>
          <p:cNvPicPr/>
          <p:nvPr/>
        </p:nvPicPr>
        <p:blipFill>
          <a:blip r:embed="rId2"/>
          <a:stretch/>
        </p:blipFill>
        <p:spPr>
          <a:xfrm>
            <a:off x="380880" y="3429000"/>
            <a:ext cx="5029200" cy="318600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8"/>
          <p:cNvSpPr/>
          <p:nvPr/>
        </p:nvSpPr>
        <p:spPr>
          <a:xfrm>
            <a:off x="5562720" y="3429000"/>
            <a:ext cx="327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ce and snow are examples of water in the solid st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11" descr="EN00275_[1]"/>
          <p:cNvPicPr/>
          <p:nvPr/>
        </p:nvPicPr>
        <p:blipFill>
          <a:blip r:embed="rId3"/>
          <a:stretch/>
        </p:blipFill>
        <p:spPr>
          <a:xfrm>
            <a:off x="6248520" y="1676520"/>
            <a:ext cx="1746000" cy="1455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050"/>
                </a:solidFill>
                <a:latin typeface="Comic Sans MS"/>
              </a:rPr>
              <a:t>Water vapor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Water vapor is an invisible gas that is always in the air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533520" y="39625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ouds are made of water vap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16" descr="j0078727[1]"/>
          <p:cNvPicPr/>
          <p:nvPr/>
        </p:nvPicPr>
        <p:blipFill>
          <a:blip r:embed="rId2"/>
          <a:stretch/>
        </p:blipFill>
        <p:spPr>
          <a:xfrm>
            <a:off x="5105520" y="4038480"/>
            <a:ext cx="3655800" cy="2522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6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680" y="380520"/>
            <a:ext cx="8842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team floating up from the sidewalk after the rain or from a hot bowl of soup is water vap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5746680" y="1676520"/>
          <a:ext cx="1997280" cy="213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46680" y="1676520"/>
                    <a:ext cx="199728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7" name="Picture 15" descr="j0350268"/>
          <p:cNvPicPr/>
          <p:nvPr/>
        </p:nvPicPr>
        <p:blipFill>
          <a:blip r:embed="rId4"/>
          <a:stretch/>
        </p:blipFill>
        <p:spPr>
          <a:xfrm>
            <a:off x="2666880" y="1447920"/>
            <a:ext cx="4810320" cy="4724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050"/>
                </a:solidFill>
                <a:latin typeface="Comic Sans MS"/>
              </a:rPr>
              <a:t>                 </a:t>
            </a:r>
            <a:r>
              <a:rPr b="0" lang="en-US" sz="4200" spc="-1" strike="noStrike">
                <a:solidFill>
                  <a:srgbClr val="003050"/>
                </a:solidFill>
                <a:latin typeface="Comic Sans MS"/>
              </a:rPr>
              <a:t>CHANGES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-1524240" y="1676520"/>
            <a:ext cx="106678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4" marL="20098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ater can change from one state to another by adding or subtracting heat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0" name="Picture 13" descr="j0346827"/>
          <p:cNvPicPr/>
          <p:nvPr/>
        </p:nvPicPr>
        <p:blipFill>
          <a:blip r:embed="rId2"/>
          <a:stretch/>
        </p:blipFill>
        <p:spPr>
          <a:xfrm>
            <a:off x="4572000" y="3581280"/>
            <a:ext cx="2514600" cy="244332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17"/>
          <p:cNvSpPr/>
          <p:nvPr/>
        </p:nvSpPr>
        <p:spPr>
          <a:xfrm>
            <a:off x="533520" y="3733920"/>
            <a:ext cx="419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solid changes to a liquid when heat is add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3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3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" dur="3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liquid changes to a solid when you take away heat, or it gets col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Picture 4" descr="j0288940"/>
          <p:cNvPicPr/>
          <p:nvPr/>
        </p:nvPicPr>
        <p:blipFill>
          <a:blip r:embed="rId1"/>
          <a:stretch/>
        </p:blipFill>
        <p:spPr>
          <a:xfrm>
            <a:off x="4941720" y="1905120"/>
            <a:ext cx="3694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3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23:00:02Z</dcterms:created>
  <dc:creator>Inst </dc:creator>
  <dc:description/>
  <dc:language>en-US</dc:language>
  <cp:lastModifiedBy>teacher</cp:lastModifiedBy>
  <dcterms:modified xsi:type="dcterms:W3CDTF">2011-04-29T01:31:43Z</dcterms:modified>
  <cp:revision>9</cp:revision>
  <dc:subject/>
  <dc:title>WATER IN OUR WORLD</dc:title>
</cp:coreProperties>
</file>